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220840" y="766440"/>
            <a:ext cx="26575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876F-D135-4B94-BC92-C881B6010F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220840" y="766800"/>
            <a:ext cx="2657520" cy="38386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6D2-5943-454D-B024-04691C04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1A4-A268-488B-9B41-0DA35B2A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608-BB14-4AB8-9634-324626B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4F4-BF97-48A4-9A40-119953EB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3C9-A495-4929-B186-FD2592EE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731C-1EFB-4835-AFA1-3D0A3003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7DC-8783-4E6A-89E3-DF9086B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B9D7-A060-41AD-A073-9EFA1A2F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CC4-F452-4F0F-B545-6C8B7D5E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143B-D2D8-465D-AC87-FB2B3E6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99B-704F-43D7-A259-6383E7F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A29B-DDDC-432F-9B74-31FDB8F9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570-79D2-49E8-94BD-A86F9C2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43D-BF69-405F-94B4-F0A0B3C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949-F0C7-4449-B18B-0EBE187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28FB-B7A7-4617-95AF-863CA97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C84-1CFB-4C02-BC5B-6781F47C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F6B7-3469-41CF-9EC2-6C92969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D54-FB3E-4B95-86BF-AD6A0186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A05-C751-4942-A876-7C38FBB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2B9-3096-4EC6-BB1D-B5762E5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725-A945-48AF-841E-D4AA31B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308-FDA6-4871-9C11-D6931EC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E27-67E1-4466-978C-3C120CF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28E-913F-467D-9BFB-2420BD8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7001-B297-4664-91BE-8FCF4C6BBA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9B8-516F-48CF-8951-FA3F8F73AFF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afontaine.net/lesFables/afficheFable.php?id=2#Slide 1" TargetMode="External"/><Relationship Id="rId2" Type="http://schemas.openxmlformats.org/officeDocument/2006/relationships/hyperlink" Target="http://www.lafontaine.net/lesFables/afficheFable.php?id=2#Slide 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80920"/>
            <a:ext cx="5786640" cy="166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 </a:t>
            </a: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ÁBULAS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E ANIMAIS QUE FALA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71360" y="5833800"/>
            <a:ext cx="48006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Son relatos moi breves nos que os animais falan, que rematan cunha reflexión de carácter didáctico ou moralizante. Próximo do xénero está o </a:t>
            </a:r>
            <a:r>
              <a:rPr b="1" i="1" lang="gl-ES" sz="2800" spc="-1" strike="noStrike">
                <a:solidFill>
                  <a:srgbClr val="000000"/>
                </a:solidFill>
                <a:latin typeface="DK Thievery"/>
              </a:rPr>
              <a:t>apólog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, unha narración con animais na que tamén pode haber presenza de personaxes humanos.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91" name="Picture 17" descr="esopo"/>
          <p:cNvPicPr/>
          <p:nvPr/>
        </p:nvPicPr>
        <p:blipFill>
          <a:blip r:embed="rId1"/>
          <a:srcRect l="6160" t="47040" r="6160" b="5411"/>
          <a:stretch/>
        </p:blipFill>
        <p:spPr>
          <a:xfrm>
            <a:off x="1285920" y="2830680"/>
            <a:ext cx="4357800" cy="2646360"/>
          </a:xfrm>
          <a:prstGeom prst="rect">
            <a:avLst/>
          </a:prstGeom>
          <a:ln w="0">
            <a:noFill/>
          </a:ln>
        </p:spPr>
      </p:pic>
      <p:sp>
        <p:nvSpPr>
          <p:cNvPr id="92" name="6 Marcador de número de diapositiva"/>
          <p:cNvSpPr/>
          <p:nvPr/>
        </p:nvSpPr>
        <p:spPr>
          <a:xfrm>
            <a:off x="4915080" y="911232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D1FF-2552-43D1-9923-CB8BECE7DA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00160"/>
            <a:ext cx="6172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e Corbeau et le Renard</a:t>
            </a:r>
            <a:br>
              <a:rPr sz="4000"/>
            </a:br>
            <a:r>
              <a:rPr b="1" lang="gl-ES" sz="3600" spc="-1" strike="noStrike">
                <a:solidFill>
                  <a:srgbClr val="ff0000"/>
                </a:solidFill>
                <a:latin typeface="DK Thievery"/>
              </a:rPr>
              <a:t>La Fontaine</a:t>
            </a:r>
            <a:endParaRPr b="0" lang="en-US" sz="36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42840" y="4381560"/>
            <a:ext cx="307188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Mestre Corvo,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nunha</a:t>
            </a: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árbore</a:t>
            </a: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 pousad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No bico aseguraba un belo queixo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Mestra Raposa, atraída pelo cheir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Así lle dixo en ton entusiasmado: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-Ola! Bo dia teña o señor Corv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Tan lindo é: unha beleza alada!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Fóra de brincadeiras, se o seu canto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Tiver das súas plumas o encant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Será con lei o Rei da Bicharada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uvindo tales verbas, que feliz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 Corvo fica; e a voz quer mostrar: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bre o bico e alá vai o queixo pelo ar!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páñao a Raposa e di: -Señor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prenda que o vaidoso se rebaixa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Fronte a quen o quere entrampar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Esta lección vale un queixo, non acha?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 Corvo, avergoñado, vendo o queixo fuxir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Xurou que tarde noutra se deixaría ir. 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142920" y="4376880"/>
            <a:ext cx="38577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Maître corbeau, sur un arbre perché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enait en son bec un fromage.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Maître renard par l'odeur 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alléché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ui tint à peu près ce langage: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Et bonjou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ieur du Corb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Que vous êtes joli! que vous me semblez beau!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Sans mentir, si votre ramage 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rapport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à votre plumage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ous êtes le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éni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des hôtes de ces bois»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 ces mots le corbeau ne se sent pas de joie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Et pour montrer sa belle voix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l ouvre un large bec laisse tomber sa proie.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e renard s'en saisit et dit: "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 bon Monsieu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pprenez que tout flatteu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it aux dépens de celui qui l'écout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ette leçon vaut bien un fromage sans doute."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e corbeau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nteux et confu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Jura mais un peu tard , qu'on ne l‘Y prendrait plus. 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32" name="Picture 8" descr="7,2corvo+e+raposa"/>
          <p:cNvPicPr/>
          <p:nvPr/>
        </p:nvPicPr>
        <p:blipFill>
          <a:blip r:embed="rId3"/>
          <a:stretch/>
        </p:blipFill>
        <p:spPr>
          <a:xfrm>
            <a:off x="2919240" y="2238480"/>
            <a:ext cx="1295640" cy="1857240"/>
          </a:xfrm>
          <a:prstGeom prst="rect">
            <a:avLst/>
          </a:prstGeom>
          <a:ln w="0">
            <a:noFill/>
          </a:ln>
        </p:spPr>
      </p:pic>
      <p:sp>
        <p:nvSpPr>
          <p:cNvPr id="133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2E2-D0D5-419C-8163-F7E24D85CF6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666720"/>
            <a:ext cx="54007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a zorra y las uvas</a:t>
            </a:r>
            <a:br>
              <a:rPr sz="4000"/>
            </a:br>
            <a:r>
              <a:rPr b="1" lang="gl-ES" sz="3200" spc="-1" strike="noStrike">
                <a:solidFill>
                  <a:srgbClr val="ff0000"/>
                </a:solidFill>
                <a:latin typeface="DK Thievery"/>
              </a:rPr>
              <a:t>Félix María de Samaniego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4738320"/>
            <a:ext cx="4857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voz común que a más del mediodía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ayunas la Zorra iba cazando;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lla una parra, quédase mirando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la alta vid el fruto que pendía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nsábala mil ansias y congojas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lcanzar a las uvas con la garra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l mostrar a sus dientes la alta parra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gros racimos entre verdes hojas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ró, saltó y anduvo en probaduras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ro vio el imposible ya de Fijo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onces fue cuando la Zorra dij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«No las quiero comer. No están maduras.»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por eso te muestres impaciente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te se frustra, Fabio, algún intent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plica bien el cuento, Y di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están maduras, frescamente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36" name="Picture 7" descr="ANd9GcTjWM4dgvQUwSctP4oAJu_h1_OqymzG_ORU4s7Kw25QX57b2AKX_w"/>
          <p:cNvPicPr/>
          <p:nvPr/>
        </p:nvPicPr>
        <p:blipFill>
          <a:blip r:embed="rId1"/>
          <a:stretch/>
        </p:blipFill>
        <p:spPr>
          <a:xfrm>
            <a:off x="2357280" y="2238480"/>
            <a:ext cx="1857600" cy="2300040"/>
          </a:xfrm>
          <a:prstGeom prst="rect">
            <a:avLst/>
          </a:prstGeom>
          <a:ln w="0">
            <a:noFill/>
          </a:ln>
        </p:spPr>
      </p:pic>
      <p:sp>
        <p:nvSpPr>
          <p:cNvPr id="137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657-C995-429C-A88E-10D791DE3EB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667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Tan vello coma a literatur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4240" y="5452560"/>
            <a:ext cx="55008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A fábula é un xénero cultivado desde a Antigüidade, pois atopáronse relatos de animais nas táboas de arxila mesopotámicas e foron precisamente gregos e romanos os que forneceron o material para as diversas compilacións e versións que se realizaron ao longo da historia da literatura. 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78800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276720" y="478800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Nd9GcQcXl22hUq5-aln_I10O8xx9NsCOJLXIYxaX0vQNiHj3e2TLIGI2g"/>
          <p:cNvPicPr/>
          <p:nvPr/>
        </p:nvPicPr>
        <p:blipFill>
          <a:blip r:embed="rId1"/>
          <a:stretch/>
        </p:blipFill>
        <p:spPr>
          <a:xfrm>
            <a:off x="1571760" y="2822400"/>
            <a:ext cx="4011480" cy="2487960"/>
          </a:xfrm>
          <a:prstGeom prst="rect">
            <a:avLst/>
          </a:prstGeom>
          <a:ln w="0">
            <a:noFill/>
          </a:ln>
        </p:spPr>
      </p:pic>
      <p:sp>
        <p:nvSpPr>
          <p:cNvPr id="98" name="8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442-375D-423F-9211-341720E46C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687320"/>
            <a:ext cx="6172200" cy="11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primeiros autore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960" y="5810400"/>
            <a:ext cx="5500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Hesíod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 inclúe en “</a:t>
            </a:r>
            <a:r>
              <a:rPr b="1" lang="gl-ES" sz="2800" spc="-1" strike="noStrike">
                <a:solidFill>
                  <a:srgbClr val="3c8c93"/>
                </a:solidFill>
                <a:latin typeface="DK Thievery"/>
              </a:rPr>
              <a:t>Os traballos e os días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” a fábula do reiseñor, pero é 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Esop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 o fabulista da Antigüidade por excelencia; 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Horacio, Fedro 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e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 Aviano 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en Roma asimilaron e aumentaron o acervo grego. 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1" name="Picture 16" descr="ANd9GcS2fRSnjLRSyHVoW6hklIGM666CjG9f77xI5qIKRYt_bHAwMbd6"/>
          <p:cNvPicPr/>
          <p:nvPr/>
        </p:nvPicPr>
        <p:blipFill>
          <a:blip r:embed="rId1"/>
          <a:srcRect l="4252" t="4637" r="340" b="11222"/>
          <a:stretch/>
        </p:blipFill>
        <p:spPr>
          <a:xfrm>
            <a:off x="1336680" y="2897280"/>
            <a:ext cx="4021200" cy="2446200"/>
          </a:xfrm>
          <a:prstGeom prst="rect">
            <a:avLst/>
          </a:prstGeom>
          <a:ln w="0">
            <a:noFill/>
          </a:ln>
        </p:spPr>
      </p:pic>
      <p:sp>
        <p:nvSpPr>
          <p:cNvPr id="102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C262-8AB3-43D2-BDCE-8CE7CBE9CC13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228320"/>
            <a:ext cx="61722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abulistas medievai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5969160"/>
            <a:ext cx="573912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Nivard de Gand, María de Francia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, e o 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Roman de Renart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, atribuído á autoría da clerecía anónima, encheron o período, no que se asiste ademais a un enriquecemento mercé ás achegas dunha tradición de orixe india (Hitopadesa Pancatantra) vehiculada a través de transmisores xudaicos ou árabes pola vía hispánica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5" name="Picture 7" descr="08_03_bes"/>
          <p:cNvPicPr/>
          <p:nvPr/>
        </p:nvPicPr>
        <p:blipFill>
          <a:blip r:embed="rId1"/>
          <a:stretch/>
        </p:blipFill>
        <p:spPr>
          <a:xfrm>
            <a:off x="2216160" y="2523960"/>
            <a:ext cx="2732040" cy="3194280"/>
          </a:xfrm>
          <a:prstGeom prst="rect">
            <a:avLst/>
          </a:prstGeom>
          <a:ln w="0">
            <a:noFill/>
          </a:ln>
        </p:spPr>
      </p:pic>
      <p:sp>
        <p:nvSpPr>
          <p:cNvPr id="106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7D3-DFCC-4195-8295-543BEB76D35E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3017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Do Renacemento ao XVIII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5880" y="5522400"/>
            <a:ext cx="5286240" cy="25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propio Leonardo da Vinci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scribiu un libro de fábulas, ao igual que moitos outros humanistas, e o xénero inspirou outro de enorme éxito no XVI e no XVII, o dos “emblemas”, aínda que o que goza de maior nota no período será o francés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La Fontaine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9" name="Picture 14" descr="ANd9GcTqsinjz-tVAEpWwggcHvm4Pu7_5O_I0XrUushAqUtJviizMSn2Dmy5myzixA"/>
          <p:cNvPicPr/>
          <p:nvPr/>
        </p:nvPicPr>
        <p:blipFill>
          <a:blip r:embed="rId1"/>
          <a:stretch/>
        </p:blipFill>
        <p:spPr>
          <a:xfrm>
            <a:off x="1500120" y="2738520"/>
            <a:ext cx="387360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185-0725-45A7-9C7F-6B1E7B74B6C0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0238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ábulas dezaoitesca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5524200"/>
            <a:ext cx="46432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000" spc="-1" strike="noStrike">
                <a:solidFill>
                  <a:srgbClr val="ff0000"/>
                </a:solidFill>
                <a:latin typeface="DK Thievery"/>
              </a:rPr>
              <a:t>Tomás de Iriarte, John Gay </a:t>
            </a: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ou</a:t>
            </a:r>
            <a:r>
              <a:rPr b="1" lang="gl-ES" sz="3000" spc="-1" strike="noStrike">
                <a:solidFill>
                  <a:srgbClr val="ff0000"/>
                </a:solidFill>
                <a:latin typeface="DK Thievery"/>
              </a:rPr>
              <a:t> Felix María de Samaniego </a:t>
            </a: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cultivan o xénero en Europa que, nesta altura, cobra un novo vigor ao socaire da revisitación do mundo antigo que representa o Neoclásico. </a:t>
            </a:r>
            <a:endParaRPr b="0" lang="en-US" sz="3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13" name="Picture 4" descr="Imagen3"/>
          <p:cNvPicPr/>
          <p:nvPr/>
        </p:nvPicPr>
        <p:blipFill>
          <a:blip r:embed="rId1"/>
          <a:stretch/>
        </p:blipFill>
        <p:spPr>
          <a:xfrm>
            <a:off x="2428920" y="2367000"/>
            <a:ext cx="2357280" cy="2841480"/>
          </a:xfrm>
          <a:prstGeom prst="rect">
            <a:avLst/>
          </a:prstGeom>
          <a:ln w="0">
            <a:noFill/>
          </a:ln>
        </p:spPr>
      </p:pic>
      <p:sp>
        <p:nvSpPr>
          <p:cNvPr id="114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4F9D-CAEE-4D1B-85EC-4F83051F3046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309320"/>
            <a:ext cx="61722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XIX e o XX 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7160" y="5095800"/>
            <a:ext cx="52149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mundo contemporáneo entrou na fábula, que a utiliza para a sátira política (emprego do que xa había algúns antecedentes) ou permite a incursión no xénero a máquinas e obxectos que veñen roubarlle parte do protagonismo aos animais.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Beatrix Potter, Basterra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Anouilh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continúan e revolucionan o xénero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17" name="Picture 10" descr="Mellon_Collieinside"/>
          <p:cNvPicPr/>
          <p:nvPr/>
        </p:nvPicPr>
        <p:blipFill>
          <a:blip r:embed="rId1"/>
          <a:stretch/>
        </p:blipFill>
        <p:spPr>
          <a:xfrm>
            <a:off x="2214720" y="2238480"/>
            <a:ext cx="2651040" cy="2820960"/>
          </a:xfrm>
          <a:prstGeom prst="rect">
            <a:avLst/>
          </a:prstGeom>
          <a:ln w="0">
            <a:noFill/>
          </a:ln>
        </p:spPr>
      </p:pic>
      <p:sp>
        <p:nvSpPr>
          <p:cNvPr id="118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3AB-E29D-4C54-9815-5755B035E820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Aesops_Fables_Monkey_And_Camel_By_Milo_Winter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428920" y="2666880"/>
            <a:ext cx="1917720" cy="2000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9720" y="595440"/>
            <a:ext cx="4714920" cy="24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asemblea dos animais</a:t>
            </a:r>
            <a:br>
              <a:rPr sz="4000"/>
            </a:br>
            <a:r>
              <a:rPr b="1" lang="gl-ES" sz="3600" spc="-1" strike="noStrike">
                <a:solidFill>
                  <a:srgbClr val="ff0000"/>
                </a:solidFill>
                <a:latin typeface="DK Thievery"/>
              </a:rPr>
              <a:t>Esopo</a:t>
            </a:r>
            <a:endParaRPr b="0" lang="en-US" sz="36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71360" y="4667400"/>
            <a:ext cx="4857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Había un león que non era nin noxento, nin cru, nin bravo, mais de trato amábel e moi xusto. Chegou a rei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Baixo o seu reinado celebrouse unha asemblea para os animais desculpárense e ofrecer satisfacción uns aos outros : o lobo deulle a paz ao año, o tigre ao cervo e a raposa á lebre.  Daquela, a lebre dix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-Levo esperando este día toda a miña vida, para ver como os febles somos respectados con xustiza polos fortes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E botouse a correr...  e correu e correu todo o que puido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Cando nun estado se practica a xustiza, os febles poden vivir tranquilos, pero non deben confiarse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2A1-1AAE-4650-964B-A9816E7663E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9160" y="880560"/>
            <a:ext cx="404964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4000" spc="-1" strike="noStrike">
                <a:solidFill>
                  <a:srgbClr val="000000"/>
                </a:solidFill>
                <a:latin typeface="DK Thievery"/>
              </a:rPr>
              <a:t>Asinus ad lyram</a:t>
            </a: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DK Thievery"/>
              </a:rPr>
              <a:t>Fedro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9720" y="4452480"/>
            <a:ext cx="5286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Quomodo ingenia saepe calamitate intercidant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Asinus iacentem vidit in prato lyram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Accessit et temptavit chordas ungula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onuere tactae. "Bella res est mehercules;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male cessit, ego" ait "artis quia sum nescius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i reperisset aliquis hanc prudentior,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divinis aures oblectasset cantibus."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ic saepe ingenia calamitate intercidunt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71760" y="7047000"/>
            <a:ext cx="407196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7f7f7f"/>
                </a:solidFill>
                <a:latin typeface="Arial"/>
                <a:ea typeface="Arial"/>
              </a:rPr>
              <a:t>O ASNO E A L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De qué modo os enxeños a miúdo se perden por unha desgra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Un burro viu unha lira tirada nun prado. Achegouse e cos cascos tocou nas cordas unha e outra vez: estas soa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"Bela cousa é; pero, por Hércules, saíume mal", dixo, "porque son ignorante da ar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Se alguén máis hábil a tivese encontrado, deleitaríanos os ouvidos coa súa ar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É así como, a miúdo, os enxeños pérdense pola desgra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314880" y="4732200"/>
            <a:ext cx="228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Burro+flautista"/>
          <p:cNvPicPr/>
          <p:nvPr/>
        </p:nvPicPr>
        <p:blipFill>
          <a:blip r:embed="rId1"/>
          <a:stretch/>
        </p:blipFill>
        <p:spPr>
          <a:xfrm>
            <a:off x="2286000" y="2309760"/>
            <a:ext cx="2286000" cy="1925640"/>
          </a:xfrm>
          <a:prstGeom prst="rect">
            <a:avLst/>
          </a:prstGeom>
          <a:ln w="0">
            <a:noFill/>
          </a:ln>
        </p:spPr>
      </p:pic>
      <p:sp>
        <p:nvSpPr>
          <p:cNvPr id="128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9C1-48C9-4D2F-86EA-62162D482E5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2:10:45Z</dcterms:created>
  <dc:creator>Organizacion</dc:creator>
  <dc:description/>
  <dc:language>en-US</dc:language>
  <cp:lastModifiedBy>Usuario</cp:lastModifiedBy>
  <dcterms:modified xsi:type="dcterms:W3CDTF">2013-01-28T15:51:22Z</dcterms:modified>
  <cp:revision>13</cp:revision>
  <dc:subject/>
  <dc:title> FÁBULAS E ANIMAIS QUE FALAN</dc:title>
</cp:coreProperties>
</file>